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4352-B073-44BF-8576-CF6053A2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341-7E10-4FAD-80EE-DB129A13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EF79-D094-42A3-B43C-D3842A8E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7407-E582-43B5-A336-96DD136F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D39C-4E42-457F-A9B8-E065BD51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2257-DA9B-466A-B415-87B6B952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D980-420B-45E7-A068-F50155AB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584A-635C-40BC-B99A-66517846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CEB5-741F-46A1-AF90-4D54C705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5DF4-DB73-436F-8343-30B3C95F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70A7-73AE-492E-903F-2F9A93BF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DACA-9513-4FFA-9788-98825ED8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C060-C13D-4BCF-858B-6773172E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B799-8BB3-457C-83B6-47FDC17F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2289-3EB4-41EA-A212-2318A890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12E9-A0B6-4E4E-B119-C38F523A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FADD-0F75-4611-863B-7798639F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4138-6C38-4F1E-9BBF-4A2D4764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070E-4BB6-4A25-93F1-34ACF009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B9E3-C7D9-437B-8220-0D1B181A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B525-166C-44A6-8CCB-31BFB807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D042-481E-4549-B6BF-3DECFB0C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CBB5-3A18-450C-A526-1AB8D945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6276-3549-49C9-BB0D-BD82BC2B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4760-D640-4A93-8CE2-C3FA60405D0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56EF-5F5C-4C51-AD9D-3D177D08F83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Plane" TargetMode="External"/><Relationship Id="rId3" Type="http://schemas.microsoft.com/office/2007/relationships/media" Target="file:///tmp/home/.config/libreoffice/4/user/gallery/Plane" TargetMode="External"/><Relationship Id="rId4" Type="http://schemas.openxmlformats.org/officeDocument/2006/relationships/image" Target="../media/image4.png"/><Relationship Id="rId5" Type="http://schemas.openxmlformats.org/officeDocument/2006/relationships/video" Target="file:///tmp/home/.config/libreoffice/4/user/gallery/Whoosh" TargetMode="External"/><Relationship Id="rId6" Type="http://schemas.microsoft.com/office/2007/relationships/media" Target="file:///tmp/home/.config/libreoffice/4/user/gallery/Whoosh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elcome Mom and Dad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org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Grade Spring Conferenc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rch 20, 2009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3809880" cy="2857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 you for coming!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ny question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7183440" y="3008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48720" y="129528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533520" y="12193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12189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Read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01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ing skills I have worked on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amma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mmariz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ory Starte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favorite books I’ve read in clas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ries Of Unfortunate Eve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Math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16256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th skills that I worked 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harts                                  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gebr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eometry               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y favorite activities to do in math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hart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ands On Equatio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ynamath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 rot="18802200">
            <a:off x="7405200" y="472032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,578-6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3344400">
            <a:off x="6018840" y="3428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6+1,2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cience and Social Studi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8195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ircuit buildin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errarium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quariu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cial Studi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cial Scientist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p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ction packet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4352760" y="3613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77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7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61048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Writ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819520"/>
            <a:ext cx="7391520" cy="30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all Writ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anksgiving Writ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ory Starters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3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3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121896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favorite experience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2362320"/>
            <a:ext cx="44956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eld trip to UL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ilding terrariums and aquariu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king U.S. map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ilding circui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108000" y="57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5800" y="2736720"/>
            <a:ext cx="3809880" cy="2754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’m good at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t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cial Stud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362320"/>
            <a:ext cx="716256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 need to work on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23623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p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ri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228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Goals for the next three month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I will improve my spelling by studying harder before tests.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I will improve my reading by reading more books and reading a longer time.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I will improve my writing by writing longer paragraphs.  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64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7:13:09Z</dcterms:created>
  <dc:creator>NSSD112</dc:creator>
  <dc:description/>
  <dc:language>en-US</dc:language>
  <cp:lastModifiedBy>nssd112</cp:lastModifiedBy>
  <dcterms:modified xsi:type="dcterms:W3CDTF">2009-03-18T18:31:48Z</dcterms:modified>
  <cp:revision>41</cp:revision>
  <dc:subject/>
  <dc:title>Welcome Mom and Dad!</dc:title>
</cp:coreProperties>
</file>